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0B3A-006F-40EB-97C1-A294E15B2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A0EB-EC40-4FA9-805D-43260273E77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6E44-DFED-4419-ACE7-53FF221AB12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CBF9-48E3-457D-A7EA-BC6A54ACC35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EBFC-8053-47A4-8FC3-371821B58EA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131B-BB0D-436E-AACE-A4474D21C4B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A58C-4777-446C-9485-9B3A0862CA2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DDE8-4206-418B-AF2E-3210F0F8B6C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CD7C-2DEB-49C1-BB91-0052300C16B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E1FC-0F2B-48E2-93A7-0288542D285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D364-734E-4C31-860A-9D78D32F8E5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D75A-A649-480C-86F7-FFB383325B7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66E2-3513-4244-B6BE-5BDD87C5CD8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3F45-342A-4FBA-9C64-FD65186A85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AA2E-3837-4863-8664-EA59972FA03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DE27-DD13-479F-881E-995BC800001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C67C-5030-421D-B153-76B121C241D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4E3E-F4E4-40F8-8958-0C0145FBC94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1698-5B00-4460-95D2-2A756FF256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CE96-24C6-4B93-A975-A893EF23A03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E35F-498F-4BDF-A5AC-606036B1D4A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D231-3BE4-49C2-A8C6-C92246603F4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A84E-3381-4866-904B-B2006713621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0680-FF68-44B0-88A2-4083E5B1815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A216-C2BC-44AE-BF03-08E653B3FD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C44D-27A9-4797-BB7E-75062938AA7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0000-1B5C-4589-BBA9-EA14E03D1DF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4D87-27A8-40AF-B7E9-0F28A81E345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AAC7-5F43-4A7A-85B7-E7DD65B6EF8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BF9B-45E1-4242-806F-E8C7C6B4F0B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9DE2-087F-4B0E-920E-E3D11931E70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6711-3CC5-4B02-82C9-4A6B3C3F9C6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A182-E9A1-496A-A440-805A8247B3F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4EC9-DD4F-4660-A4B9-E541ACDC15A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5628-7F33-4D96-AC73-A6DC281E91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F5F6-DF19-4CBD-A66C-2CF55F80FF1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85B6-6541-4FBC-87D2-464CDE0CB99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4EAF-73F2-466C-B59F-22AA3C06702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A1E9-9895-4AD5-ACCC-97C5C1E0319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1DE0-38B6-42C5-859E-3A108DC263F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DBB7-493B-4DFC-8D0A-975EFC5785D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A41C-CFBF-476B-9851-54EFAB241EB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28A7-2373-4E39-B805-4671FCD16C6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10E0-3CB1-4A8B-9090-C177B2BC18F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9577-A245-4EA9-ACF3-535EA5E4DED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5F4B-2723-46A6-A504-AE3343DEC39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5FA5-BFCD-4A3B-840B-67D4F95AA32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21DC-41A4-4FF3-BD29-3B3084CC32D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F6ED-FAC1-46CD-9DC0-AD407EA1591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9B53-0EC6-49CF-9769-E383FE99E8F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37DF-E845-4BC0-BBB7-6BB6FFB8E34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112B-1C70-4C25-9470-196422B350C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CC3A-A019-4482-B1A2-1A13AE59A0F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1F71-F05C-47F6-8CD7-B5B277A25E7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A968-CD7E-46CC-859E-28574670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C39A-0AE0-498E-B092-636047F3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600-924A-4541-9772-88C40CA2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142-6317-4E1F-B106-4BB5783C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ADF1-6D04-4CA6-A251-E1CFD4B7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372-BE3C-4B3C-993A-B3AAB043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50A0-0352-4CFC-B0E3-E28D6110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B2A-5DEC-440B-9076-278809FD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CB1-CA7C-4EA9-B824-70BE8A06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328-6E26-4C5B-85B7-48659BE0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8588-A372-4BF6-8C9B-2B55E85F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A28-1A26-4061-B11A-D42C190E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DEA7-B03B-4BE9-98C3-86332E43EE7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r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k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proportion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23-11-06T09:58:58Z</dcterms:modified>
  <cp:revision>119</cp:revision>
  <dc:subject/>
  <dc:title>Aims and Objectives</dc:title>
</cp:coreProperties>
</file>